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LASER.WAV" ContentType="audio/x-wav"/>
  <Override PartName="/ppt/media/CAMERA.WAV" ContentType="audio/x-wav"/>
  <Override PartName="/ppt/media/driveby.wav" ContentType="audio/x-wav"/>
  <Override PartName="/ppt/media/EXPLODE.WAV" ContentType="audio/x-wav"/>
  <Override PartName="/ppt/media/lzipup01.wav" ContentType="audio/x-wav"/>
  <Override PartName="/ppt/media/hzipup01.wav" ContentType="audio/x-wav"/>
  <Override PartName="/ppt/media/applause.wav" ContentType="audio/x-wav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11E-18F6-4960-B06A-0D548DC8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7859-A25A-45E9-B987-BF7BBC33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D64-6503-4107-8CA1-4FF8C83A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CE6-6DC1-45D7-AB80-24E92B19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6C5-CAA5-4A45-AAAD-8CE54CB1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A0F-BC04-4AA8-BDAE-BEB187D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03D-385B-430A-957E-AC4F1252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AB2-32E4-4834-80D8-87AC3D98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B14-60E2-4C7F-AC9A-B5D1061C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19F-DEF2-40DA-8D3F-E3B22F9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46F-169C-445E-A8D0-8299F28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8F5-1360-458D-A50C-7025D4B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9E25-8F61-41BB-B06F-89ED7037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driveby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CAMERA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driveby.wav"/><Relationship Id="rId21" Type="http://schemas.openxmlformats.org/officeDocument/2006/relationships/audio" Target="../media/driveby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driveby.wav"/><Relationship Id="rId13" Type="http://schemas.openxmlformats.org/officeDocument/2006/relationships/audio" Target="../media/LASER.WAV"/><Relationship Id="rId14" Type="http://schemas.openxmlformats.org/officeDocument/2006/relationships/audio" Target="../media/EXPLODE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EXPLODE.WAV"/><Relationship Id="rId18" Type="http://schemas.openxmlformats.org/officeDocument/2006/relationships/audio" Target="../media/CAMERA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hzipup01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boinng04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audio" Target="../media/bserie06.wav"/><Relationship Id="rId32" Type="http://schemas.openxmlformats.org/officeDocument/2006/relationships/audio" Target="../media/hzipup01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audio" Target="../media/zapbig0g.wav"/><Relationship Id="rId36" Type="http://schemas.openxmlformats.org/officeDocument/2006/relationships/audio" Target="../media/driveby.wav"/><Relationship Id="rId37" Type="http://schemas.openxmlformats.org/officeDocument/2006/relationships/audio" Target="../media/driveby.wav"/><Relationship Id="rId38" Type="http://schemas.openxmlformats.org/officeDocument/2006/relationships/audio" Target="../media/applause.wav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driveby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EXPLODE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EXPLODE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audio" Target="../media/driveby.wav"/><Relationship Id="rId20" Type="http://schemas.openxmlformats.org/officeDocument/2006/relationships/audio" Target="../media/driveby.wav"/><Relationship Id="rId21" Type="http://schemas.openxmlformats.org/officeDocument/2006/relationships/audio" Target="../media/applause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driveby.wav"/><Relationship Id="rId8" Type="http://schemas.openxmlformats.org/officeDocument/2006/relationships/audio" Target="../media/LASER.WAV"/><Relationship Id="rId9" Type="http://schemas.openxmlformats.org/officeDocument/2006/relationships/audio" Target="../media/driveby.wav"/><Relationship Id="rId10" Type="http://schemas.openxmlformats.org/officeDocument/2006/relationships/audio" Target="../media/LASER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CAMERA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hzipup01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boinng04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hzipup01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audio" Target="../media/driveby.wav"/><Relationship Id="rId31" Type="http://schemas.openxmlformats.org/officeDocument/2006/relationships/audio" Target="../media/driveby.wav"/><Relationship Id="rId32" Type="http://schemas.openxmlformats.org/officeDocument/2006/relationships/audio" Target="../media/applause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79440" y="1425600"/>
                <a:ext cx="39020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955880" y="240192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92200" y="1932120"/>
                <a:ext cx="1409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47840" y="2668680"/>
                <a:ext cx="525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68480" y="1944720"/>
                <a:ext cx="1408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090440" y="2535120"/>
            <a:ext cx="3256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833560" y="2563920"/>
                <a:ext cx="1540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97280" y="1460520"/>
                <a:ext cx="4232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827840" y="428148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980480" y="40528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0760" y="26226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4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59600" y="405936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6360" y="3935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2781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6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936960"/>
            <a:ext cx="71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054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573960" y="289368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64400" y="210024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93000" y="2017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973920" y="2871720"/>
            <a:ext cx="419040" cy="433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1360" y="268920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25480" y="394956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0" y="1592280"/>
                <a:ext cx="4889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29080" y="2135160"/>
                <a:ext cx="1363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79600" y="2103480"/>
                <a:ext cx="13636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898560" y="2781360"/>
            <a:ext cx="39369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880" y="990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8240" y="1771200"/>
            <a:ext cx="563760" cy="405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147492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70040" y="3446640"/>
                <a:ext cx="9874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314360" y="4210200"/>
                <a:ext cx="1135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3480" y="3440160"/>
                <a:ext cx="973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443320" y="34513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4070520"/>
                <a:ext cx="5684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90720" y="3463920"/>
            <a:ext cx="838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57240" y="2811600"/>
                <a:ext cx="9158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82800" y="2806560"/>
                <a:ext cx="17510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2" name=""/>
          <p:cNvCxnSpPr/>
          <p:nvPr/>
        </p:nvCxnSpPr>
        <p:spPr>
          <a:xfrm flipV="1" rot="16200000">
            <a:off x="1648080" y="31417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3" name=""/>
          <p:cNvCxnSpPr/>
          <p:nvPr/>
        </p:nvCxnSpPr>
        <p:spPr>
          <a:xfrm flipV="1" rot="16200000">
            <a:off x="1594080" y="3718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03600" y="2830680"/>
                <a:ext cx="46404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52600" y="46450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60818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7640" y="5943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8520" y="523224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1080" y="54198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943600"/>
            <a:ext cx="9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V="1" rot="16200000">
            <a:off x="2449800" y="51228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6200000">
            <a:off x="2367360" y="6396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1944720" y="594036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83080" y="3602160"/>
                <a:ext cx="3859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819680" y="458784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8320" y="6024600"/>
            <a:ext cx="157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519120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72000" y="5224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1000" y="5943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5935680"/>
            <a:ext cx="11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56280" y="4037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00920" y="6280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53200" y="605160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03200" y="284472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2360" y="1482840"/>
                <a:ext cx="3589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92400" y="2155680"/>
                <a:ext cx="939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827360" y="3044880"/>
                <a:ext cx="113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54040" y="2149560"/>
                <a:ext cx="927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941560" y="21607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40120" y="2911320"/>
                <a:ext cx="566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488960" y="217332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/>
          <p:nvPr/>
        </p:nvCxnSpPr>
        <p:spPr>
          <a:xfrm flipV="1" rot="16200000">
            <a:off x="2146680" y="1851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15" name=""/>
          <p:cNvCxnSpPr/>
          <p:nvPr/>
        </p:nvCxnSpPr>
        <p:spPr>
          <a:xfrm flipV="1" rot="16200000">
            <a:off x="2135520" y="24843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5297400" y="154764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26240" y="298440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32440" y="2832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13320" y="213516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6240" y="232236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87880" y="2846520"/>
            <a:ext cx="9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6200000">
            <a:off x="7093440" y="20113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 rot="16200000">
            <a:off x="7112160" y="329904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689880" y="2843280"/>
            <a:ext cx="3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77120" y="31860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529400" y="295740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058840" y="373068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 and check you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90520" y="1447920"/>
                <a:ext cx="4172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679400" y="1962000"/>
                <a:ext cx="1408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3080" y="1944720"/>
                <a:ext cx="14083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58960" y="2651040"/>
            <a:ext cx="39369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5680" y="3301920"/>
                <a:ext cx="469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292480" y="3965400"/>
                <a:ext cx="11350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01960" y="3295800"/>
                <a:ext cx="4636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039760" y="33066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503520" y="3848040"/>
                <a:ext cx="540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605040" y="331956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33440" y="2666880"/>
                <a:ext cx="777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044880" y="2674800"/>
                <a:ext cx="14367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911760" y="3807000"/>
                <a:ext cx="6714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34000" y="1379520"/>
                <a:ext cx="44100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52600" y="46450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1080" y="60818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7640" y="5929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8520" y="523224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81080" y="54198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43080" y="5943600"/>
            <a:ext cx="96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/>
          <p:nvPr/>
        </p:nvCxnSpPr>
        <p:spPr>
          <a:xfrm flipV="1" rot="16200000">
            <a:off x="2348280" y="5108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 rot="16200000">
            <a:off x="2367360" y="6396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944720" y="594036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64000" y="2049480"/>
                <a:ext cx="3721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886360" y="28098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15200" y="424656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94480" y="4122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32400" y="34653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2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6400" y="412920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88400" y="449424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140680" y="426564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3, 5 – 11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11-01T02:26:11Z</dcterms:modified>
  <cp:revision>70</cp:revision>
  <dc:subject/>
  <dc:title>Slide 1</dc:title>
</cp:coreProperties>
</file>